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28831-667C-4799-8039-6AC38FB49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9169A-340E-4700-B4D5-3D31F2CAD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A9CDE-17B2-4175-8FD1-CA1F7ADF2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DB2DC-9049-4A8E-B4E9-41791F89F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B0557-C6C7-4586-AE7E-781DB8630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99806-9833-41F4-A4B7-77F4F6EE3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15002-ADC4-454B-88D8-D21B79C27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7BFB0-8CF4-463D-BC5C-E1A0EC2B0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A74C3-EBFA-45C5-98ED-A6B545CD8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46ACD-AB9B-4DEB-AC6A-36494DFC0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F0ECE-54F3-4CF7-BD1B-5EDE28FEF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11FE9-C91B-4209-B601-792276924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A2282-B47B-415F-84AE-7C6467ECBA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Line 6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7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9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0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1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2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feld 1"/>
          <p:cNvSpPr/>
          <p:nvPr/>
        </p:nvSpPr>
        <p:spPr>
          <a:xfrm>
            <a:off x="503280" y="368280"/>
            <a:ext cx="75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used in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ica.Mechanics.MultiBody.Examples.Loops.PlanarLoops_analy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Otter, Martin</cp:lastModifiedBy>
  <dcterms:modified xsi:type="dcterms:W3CDTF">2012-10-06T04:39:44Z</dcterms:modified>
  <cp:revision>2</cp:revision>
  <dc:subject/>
  <dc:title>Folie 1</dc:title>
</cp:coreProperties>
</file>